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E8EB-678E-4716-82FC-B4A0AAD22961}" type="slidenum">
              <a:rPr b="0" lang="en-N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Whole class active engage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apitalizing on Cultural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mbs up and dow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7561-0EE3-46A5-B4A1-DD63C6BB83A6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9053-00F8-4D4C-A865-0B2514379159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 to give out random selection cards for group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give out roles: noise controller, materials manager, organizer, rec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WO activities and get them starte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566E-0EAE-4608-9D19-E97E10C7FE8C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F472-FBA7-4C33-AB87-58FD631FF719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5D21-208B-4757-9F64-C71B23DAF8AB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7D56-C7C8-4D1B-A136-461C72F9725B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y Such a Focus on active engagement and cutlural capital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we know is effectiveness is far from simple:  many things are interrelated in a classroom to make it effecitv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focus of late has been: curriculum – writing curr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eracy leadership team confident that writing curriculum is going well……but da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 still not show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shift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( Ferguson, 1991)tells us tha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ing is the most important element of successful learning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ling-Hammond, L.)THAT is,  WHAT THWE TEACHER IS DOING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e also know that what a studetns/whanu bring is also significant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try and feed into our understandings of both of these interrelated components this year ALONGSIDE our growing writing knowled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 AND SHARE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at does a culturally responsive teacher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at do active engaged learners look like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DAY JUST GOING TO LOOK AT ‘ACTIVE LEARNER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ow might you use this ‘stand and share ‘ structure in your class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YOU TO TAKE  A SEAT AND LISTEN NOW…. IM GOING TO DO A CHALK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D05B-E6FC-4531-A0BB-29C52A11176D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FC96-F701-4D40-9AB7-B73FFB8DA6D3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lets define i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4C31-CB64-485D-93EF-F57A8288B368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ctive engagement help our students understandings and social ski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note on motivation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F993-6D60-49F3-AB1D-4A3820390979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/P/S- think about what you have he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 up with someone near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your though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rule:  share two things….each one from a different perspective (with a different hat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ok ending….. Good simple technique to minimize teacher tal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C157-2DF3-4B46-ACF5-DE7FE370EC44}" type="slidenum">
              <a:rPr b="0" lang="en-NZ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4E9A-5EAE-43A5-A5A5-C4A74DB7CC10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ow….. We know what ACTIVE LEARNING  is and how it supports thinking and social skills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IT LOOK LIKE?  JULIE TO GOVE OUT RANDOM CARDS…. Sit in group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19E-122C-44A3-B31F-171D64CA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58F-8D9A-42C3-87CE-0AB9F566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B5C-1839-4500-AE3F-DDD01E86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36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02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70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36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02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6B1-93FA-4436-B5DB-A46811A8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E175-C9DF-4109-82E2-52AD65A0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41C2-3118-40FD-B5F5-AD1C2182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013A-C29A-4D77-8BD7-35BDDFC6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ECD5-1EC2-4AA0-B307-790D2EA2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6031-A826-4C76-91A7-8DE93D89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7000" y="1699920"/>
            <a:ext cx="79167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9969-666D-423A-9F85-23308B51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3B9E-E54D-4B95-BFF7-FC12BAAF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BAB-B5B8-485E-8306-815037F5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6843-F081-4656-99FB-FD6F8F0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65F0-16C3-432A-9D4D-78F59238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5BC9-CFD9-4FAA-95BD-6C158700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220F-5592-414D-94B7-22F10EBA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36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02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70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36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02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9541-D48A-493A-8BBD-4B28936F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D487-C3B5-4C40-8A94-72F32BFC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83D3-F3B4-4652-95D5-50DB2090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9913-A1C9-4AB0-BD37-6776638A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EFC1-FC87-4836-ADAF-51101EB7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5706-DDD2-482B-8753-463D4373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B02-48BF-4002-8A1B-4CAADCB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57000" y="1699920"/>
            <a:ext cx="79167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A109-B540-4BE4-8B81-2C302E31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F171-92D3-4E92-AA63-133EAE8B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86F2-4FDD-4F12-8196-BF238882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FB49-0CDE-485E-BD91-D68FC39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E922B-2CA7-4241-B019-9217C492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5738C-1960-495E-BA30-94D7D777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36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0200" y="221256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570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36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0200" y="4023000"/>
            <a:ext cx="254880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D718A-9DFB-4209-B48C-0784EC25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AB8-CB73-4FF2-92C4-758B47BF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2A8-BD4B-4748-AFB3-FB416104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7000" y="1699920"/>
            <a:ext cx="79167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261-88E1-483E-8038-3E9EB093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3D7-0FF4-4F47-9F1B-325ECA7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840" y="402300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616-A588-4389-985D-14E6610D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7000" y="1698120"/>
            <a:ext cx="791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700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840" y="2212560"/>
            <a:ext cx="38631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7000" y="4023000"/>
            <a:ext cx="7916760" cy="16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374-356C-475A-ACAD-EAF26C6D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Powerpoint-interior-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1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2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3" marL="343080" indent="-343080">
              <a:spcBef>
                <a:spcPts val="689"/>
              </a:spcBef>
              <a:buClr>
                <a:srgbClr val="545454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4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5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6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390A-3D90-456E-92EE-6B50D2DD5F19}" type="slidenum">
              <a:rPr b="0" lang="en-N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Powerpoint-interior-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7000" y="2212920"/>
            <a:ext cx="791676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1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2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3" marL="343080" indent="-343080">
              <a:spcBef>
                <a:spcPts val="689"/>
              </a:spcBef>
              <a:buClr>
                <a:srgbClr val="545454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4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5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6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4DB4-3298-41E2-B2AF-26CFD1763BB6}" type="slidenum">
              <a:rPr b="0" lang="en-N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Powerpoint-Title-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7000" y="2212560"/>
            <a:ext cx="79167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t">
            <a:normAutofit/>
          </a:bodyPr>
          <a:p>
            <a:pPr marL="343080" indent="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1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2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3" marL="343080" indent="-343080">
              <a:spcBef>
                <a:spcPts val="689"/>
              </a:spcBef>
              <a:buClr>
                <a:srgbClr val="545454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4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5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lvl="6"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A0E6-1487-4B3E-9539-F74C3FB8E0FD}" type="slidenum">
              <a:rPr b="0" lang="en-NZ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1640" y="1916280"/>
            <a:ext cx="7242120" cy="345744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Tell me, </a:t>
            </a:r>
            <a:br>
              <a:rPr sz="2000"/>
            </a:b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I forget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Show me,</a:t>
            </a:r>
            <a:br>
              <a:rPr sz="2000"/>
            </a:b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I remember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Involve me,</a:t>
            </a:r>
            <a:br>
              <a:rPr sz="2000"/>
            </a:br>
            <a:r>
              <a:rPr b="1" lang="en-US" sz="2000" spc="-1" strike="noStrike">
                <a:solidFill>
                  <a:srgbClr val="de7008"/>
                </a:solidFill>
                <a:latin typeface="Wide Latin"/>
              </a:rPr>
              <a:t>I understand.</a:t>
            </a:r>
            <a:br>
              <a:rPr sz="2000"/>
            </a:b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de7008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de7008"/>
                </a:solidFill>
                <a:latin typeface="Arial"/>
              </a:rPr>
              <a:t>-Ancient Chinese Proverb</a:t>
            </a:r>
            <a:br>
              <a:rPr sz="1600"/>
            </a:br>
            <a:endParaRPr b="0" lang="en-US" sz="1600" spc="-1" strike="noStrike">
              <a:solidFill>
                <a:srgbClr val="de70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Learning Intention :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57000" y="2212920"/>
            <a:ext cx="7916760" cy="22240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/>
          </a:bodyPr>
          <a:p>
            <a:pPr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To add to our practice knowledge of what </a:t>
            </a:r>
            <a:r>
              <a:rPr b="1" lang="en-US" sz="2200" spc="-1" strike="noStrike">
                <a:solidFill>
                  <a:srgbClr val="545454"/>
                </a:solidFill>
                <a:latin typeface="Arial"/>
              </a:rPr>
              <a:t>active engagement </a:t>
            </a: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in learning looks and sounds like through the coop learning approach.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630360" y="4437000"/>
            <a:ext cx="79167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  <a:ea typeface="Arial"/>
              </a:rPr>
              <a:t>Success Criteria: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  <a:ea typeface="Arial"/>
              </a:rPr>
              <a:t>Within your groups of four please write down:  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  <a:ea typeface="Arial"/>
              </a:rPr>
              <a:t>2 academic success criteria for your group and one social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  <a:ea typeface="Arial"/>
              </a:rPr>
              <a:t>Write down on a post it note your own personal s/c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1461600"/>
            <a:ext cx="7917120" cy="4762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FINAL WORD ACTIVITY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1937880"/>
            <a:ext cx="8424720" cy="354492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 fontScale="88000"/>
          </a:bodyPr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Read article quietly as an individual in your group of four. Take approx 15 minutes to do this.   Highlight and take notes as you go…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Choose just 2-3 items to share.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Person one shares their item, “My choice reads…” Do not share your thinking about the item at this stage.  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Each team member then comments in a round- robin about the item, with no cross talking..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When all have commented the persons who named item gets the final word- they paraphrase back key ideas or trends heard and share their own thinking and why they chose it. 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  <a:p>
            <a:pPr marL="301680" indent="-301680">
              <a:spcBef>
                <a:spcPts val="587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54"/>
                </a:solidFill>
                <a:latin typeface="Arial"/>
              </a:rPr>
              <a:t>PATTERN REPEATS UNTIL TIME RUNS OUT and all have had at least one turn!  You have only 40 mins in total!</a:t>
            </a:r>
            <a:endParaRPr b="0" lang="en-US" sz="19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7000" y="1461600"/>
            <a:ext cx="7916760" cy="4762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7008"/>
                </a:solidFill>
                <a:latin typeface="Arial"/>
              </a:rPr>
              <a:t>WRITING PLANNING ACTIVITY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57000" y="2212920"/>
            <a:ext cx="7916760" cy="36640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1.  In your same groups: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*  Chose one class level and one  focus group of students ( from earlier today perhaps) and plan a writing lesson.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2.  AT THE END YOU WILL BE ASKED TO SHARE BACK THE LESSON .  BE PREPARED TO </a:t>
            </a:r>
            <a:r>
              <a:rPr b="1" lang="en-US" sz="2200" spc="-1" strike="noStrike">
                <a:solidFill>
                  <a:srgbClr val="545454"/>
                </a:solidFill>
                <a:latin typeface="Arial"/>
              </a:rPr>
              <a:t>BE SUCCINCT </a:t>
            </a: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&amp; COMMENT ON </a:t>
            </a:r>
            <a:r>
              <a:rPr b="1" lang="en-US" sz="2200" spc="-1" strike="noStrike">
                <a:solidFill>
                  <a:srgbClr val="545454"/>
                </a:solidFill>
                <a:latin typeface="Arial"/>
              </a:rPr>
              <a:t>WHY</a:t>
            </a: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 YOU HAVE INCLUDED CERTAIN INSTRUCTIONAL STRATEGIES…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62864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In your groups discuss the SC and how well you did collectively as a group.  As well as this think and discuss next steps.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Each individual also shares their SC and how well they felt they did and their possible next steps. 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As a group be ready to share ONE: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2" marL="378000">
              <a:spcBef>
                <a:spcPts val="374"/>
              </a:spcBef>
              <a:buClr>
                <a:srgbClr val="5454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Positive or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2" marL="378000">
              <a:spcBef>
                <a:spcPts val="374"/>
              </a:spcBef>
              <a:buClr>
                <a:srgbClr val="5454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Minus or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2" marL="378000">
              <a:spcBef>
                <a:spcPts val="374"/>
              </a:spcBef>
              <a:buClr>
                <a:srgbClr val="5454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Interesting,  about your learning's around active engagement…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marL="343080" indent="-34308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FB2E-40B0-47C5-877F-3393418FA4E1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913480" y="2286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54"/>
                </a:solidFill>
                <a:latin typeface="Arial"/>
                <a:ea typeface="Arial"/>
              </a:rPr>
              <a:t>Reflections…..</a:t>
            </a:r>
            <a:endParaRPr b="0" lang="en-US" sz="40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104320" cy="260856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Teaching &amp; Learning Outcomes in Writing 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btopic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 Whole class active engagemen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Capitalizing on Cultural Capital</a:t>
            </a:r>
            <a:endParaRPr b="0" lang="en-US" sz="3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55280" y="4652640"/>
            <a:ext cx="7426440" cy="48420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ARNING MEDIA- Angela Millar and Julie Beatie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7000" y="1690560"/>
            <a:ext cx="7916760" cy="4780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7008"/>
                </a:solidFill>
                <a:latin typeface="Arial"/>
              </a:rPr>
              <a:t>Ecological Model of Effectiveness</a:t>
            </a:r>
            <a:endParaRPr b="0" lang="en-US" sz="2800" spc="-1" strike="noStrike">
              <a:solidFill>
                <a:srgbClr val="de7008"/>
              </a:solidFill>
              <a:latin typeface="Arial"/>
            </a:endParaRPr>
          </a:p>
        </p:txBody>
      </p:sp>
      <p:pic>
        <p:nvPicPr>
          <p:cNvPr id="137" name="Diagram 2" descr=""/>
          <p:cNvPicPr/>
          <p:nvPr/>
        </p:nvPicPr>
        <p:blipFill>
          <a:blip r:embed="rId1"/>
          <a:stretch/>
        </p:blipFill>
        <p:spPr>
          <a:xfrm>
            <a:off x="1352520" y="2176560"/>
            <a:ext cx="5913360" cy="2913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826920" y="5127480"/>
            <a:ext cx="77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“…</a:t>
            </a: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.identify </a:t>
            </a:r>
            <a:r>
              <a:rPr b="1" lang="en-US" sz="1800" spc="-1" strike="noStrike">
                <a:solidFill>
                  <a:srgbClr val="545454"/>
                </a:solidFill>
                <a:latin typeface="Arial"/>
              </a:rPr>
              <a:t>mismatches between students’ learning needs and the instructional environment </a:t>
            </a: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and to develop responsive </a:t>
            </a:r>
            <a:r>
              <a:rPr b="1" lang="en-US" sz="1800" spc="-1" strike="noStrike">
                <a:solidFill>
                  <a:srgbClr val="545454"/>
                </a:solidFill>
                <a:latin typeface="Arial"/>
              </a:rPr>
              <a:t>interventions based on evidence-based teaching practices (</a:t>
            </a: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Ysseldyke &amp; Christensen, 1993)…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5EDB-4C2D-44F3-B763-23E61223D3AD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7008"/>
                </a:solidFill>
                <a:latin typeface="Arial"/>
              </a:rPr>
              <a:t>What is Active Engagement?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5454"/>
                </a:solidFill>
                <a:latin typeface="Arial"/>
              </a:rPr>
              <a:t>Active engagement refers to the joint functioning of motivation, conceptual knowledge, cognitive strategies, and social interactions in literacy activities.</a:t>
            </a: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(Guthrie &amp; Anderson, 1999)</a:t>
            </a:r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04920" y="44953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 fontScale="98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5454"/>
                </a:solidFill>
                <a:latin typeface="Arial"/>
              </a:rPr>
              <a:t>Active learning involves providing opportunities for students to meaningfully talk and listen, write, read, and reflect on the content, ideas, issues and concerns of an academic subject.</a:t>
            </a: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5454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45454"/>
                </a:solidFill>
                <a:latin typeface="Arial"/>
              </a:rPr>
              <a:t>(Meyers &amp; Jones, 1993)</a:t>
            </a:r>
            <a:endParaRPr b="0" lang="en-US" sz="1200" spc="-1" strike="noStrike">
              <a:solidFill>
                <a:srgbClr val="54545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91600" y="1774800"/>
            <a:ext cx="8394840" cy="100008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 fontScale="79000"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Engaged writers gain knowledge and experience as they read and write by continually activating and extending their understanding.  They apply knowledge to answer a new question or to solve a problem. 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Baker, Dreher, &amp; Guthrie, 2000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7B19-1C0F-4D51-981C-CCEC6BF149BE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000" y="1296720"/>
            <a:ext cx="8394840" cy="47772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7008"/>
                </a:solidFill>
                <a:latin typeface="Arial"/>
              </a:rPr>
              <a:t>Active Engagement &amp; Conceptual Knowledge</a:t>
            </a:r>
            <a:endParaRPr b="0" lang="en-US" sz="20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16080" y="3533760"/>
            <a:ext cx="78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When children are highly social, sharing their reading and writing frequently, they are likely to be active, interested learners.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33280" y="3046320"/>
            <a:ext cx="83948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7008"/>
                </a:solidFill>
                <a:latin typeface="Arial"/>
                <a:ea typeface="Arial"/>
              </a:rPr>
              <a:t>Active Engagement and Social Interactions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</p:txBody>
      </p:sp>
      <p:pic>
        <p:nvPicPr>
          <p:cNvPr id="149" name="Picture 5" descr="kids_reading250"/>
          <p:cNvPicPr/>
          <p:nvPr/>
        </p:nvPicPr>
        <p:blipFill>
          <a:blip r:embed="rId1"/>
          <a:stretch/>
        </p:blipFill>
        <p:spPr>
          <a:xfrm>
            <a:off x="7380360" y="190440"/>
            <a:ext cx="1481040" cy="1567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318960" y="4673520"/>
            <a:ext cx="7928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Engaged readers and writers use strategies for integrating information and communicating and representing their understanding.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</a:rPr>
              <a:t>Cognitive strategies are procedures that can help students succeed at higher-order tasks.  Some strategies are: Self-questioning, monitoring and summarizing.  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17520" y="4238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7008"/>
                </a:solidFill>
                <a:latin typeface="Arial"/>
                <a:ea typeface="Arial"/>
              </a:rPr>
              <a:t>Active Engagement and Thinking Skills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7000" y="1412640"/>
            <a:ext cx="8142120" cy="76500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7008"/>
                </a:solidFill>
                <a:latin typeface="Arial"/>
              </a:rPr>
              <a:t>Active Engagement and Motivation</a:t>
            </a:r>
            <a:endParaRPr b="0" lang="en-US" sz="2400" spc="-1" strike="noStrike">
              <a:solidFill>
                <a:srgbClr val="de7008"/>
              </a:solidFill>
              <a:latin typeface="Arial"/>
            </a:endParaRPr>
          </a:p>
        </p:txBody>
      </p:sp>
      <p:pic>
        <p:nvPicPr>
          <p:cNvPr id="153" name="Picture 49" descr="reading"/>
          <p:cNvPicPr/>
          <p:nvPr/>
        </p:nvPicPr>
        <p:blipFill>
          <a:blip r:embed="rId1"/>
          <a:srcRect l="0" t="23163" r="0" b="23163"/>
          <a:stretch/>
        </p:blipFill>
        <p:spPr>
          <a:xfrm>
            <a:off x="5859360" y="1916280"/>
            <a:ext cx="2940120" cy="1287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657360" y="2349360"/>
            <a:ext cx="574200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54"/>
                </a:solidFill>
                <a:latin typeface="Arial"/>
                <a:ea typeface="Arial"/>
              </a:rPr>
              <a:t>Factors affecting the development of intrinsic motivation in a school setting:</a:t>
            </a: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*  Level of challenge offered by tasks and materials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*  Quality and timing of feedback to students about heir work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*  Supports and scaffolds available to learners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Students</a:t>
            </a:r>
            <a:r>
              <a:rPr b="0" lang="ja-JP" sz="2000" spc="-1" strike="noStrike">
                <a:solidFill>
                  <a:srgbClr val="545454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 interest in tasks and content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454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54"/>
                </a:solidFill>
                <a:latin typeface="Arial"/>
                <a:ea typeface="Arial"/>
              </a:rPr>
              <a:t>Nature of the learning context</a:t>
            </a:r>
            <a:endParaRPr b="0" lang="en-US" sz="20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95280" y="5732640"/>
            <a:ext cx="817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54"/>
                </a:solidFill>
                <a:latin typeface="Arial"/>
                <a:ea typeface="Arial"/>
              </a:rPr>
              <a:t>Intrinsically motivated students tend to persist longer, work harder, actively apply strategies, and retain key information more consistently.</a:t>
            </a:r>
            <a:endParaRPr b="0" lang="en-US" sz="16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5651640" y="6083280"/>
            <a:ext cx="333504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7008"/>
                </a:solidFill>
                <a:latin typeface="Arial"/>
              </a:rPr>
              <a:t>Guthrie, McGough, et al., 1996; Guthrie &amp; Van Meter, et al., 1996</a:t>
            </a:r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pic>
        <p:nvPicPr>
          <p:cNvPr id="158" name="Content Placeholder 15" descr="six-thinking-hats-class-display.jpg"/>
          <p:cNvPicPr/>
          <p:nvPr/>
        </p:nvPicPr>
        <p:blipFill>
          <a:blip r:embed="rId1"/>
          <a:srcRect l="-7807" t="-11916" r="-5467" b="-3771"/>
          <a:stretch/>
        </p:blipFill>
        <p:spPr>
          <a:xfrm>
            <a:off x="625320" y="1219320"/>
            <a:ext cx="7917120" cy="56228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6"/>
          <p:cNvSpPr/>
          <p:nvPr/>
        </p:nvSpPr>
        <p:spPr>
          <a:xfrm>
            <a:off x="2556000" y="531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54"/>
                </a:solidFill>
                <a:latin typeface="Arial"/>
              </a:rPr>
              <a:t>THINK, PAIR, SHARE</a:t>
            </a: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3" descr=""/>
          <p:cNvPicPr/>
          <p:nvPr/>
        </p:nvPicPr>
        <p:blipFill>
          <a:blip r:embed="rId1"/>
          <a:stretch/>
        </p:blipFill>
        <p:spPr>
          <a:xfrm>
            <a:off x="652320" y="2212920"/>
            <a:ext cx="8101080" cy="4035600"/>
          </a:xfrm>
          <a:prstGeom prst="rect">
            <a:avLst/>
          </a:prstGeom>
          <a:ln w="0">
            <a:noFill/>
          </a:ln>
        </p:spPr>
      </p:pic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742E-6139-4043-BAF7-3400FF55F4F4}" type="slidenum">
              <a:rPr b="0" lang="en-US" sz="1200" spc="-1" strike="noStrike">
                <a:solidFill>
                  <a:srgbClr val="54545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45454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7008"/>
                </a:solidFill>
                <a:latin typeface="Arial"/>
              </a:rPr>
              <a:t>Active Engagement – HOW IT MIGHT LOOK…</a:t>
            </a:r>
            <a:br>
              <a:rPr sz="2400"/>
            </a:br>
            <a:r>
              <a:rPr b="0" lang="en-US" sz="2400" spc="-1" strike="noStrike">
                <a:solidFill>
                  <a:srgbClr val="de7008"/>
                </a:solidFill>
                <a:latin typeface="Arial"/>
              </a:rPr>
              <a:t>Approaches (BY)                  Strategies (THROUGH)</a:t>
            </a:r>
            <a:endParaRPr b="0" lang="en-US" sz="2400" spc="-1" strike="noStrike">
              <a:solidFill>
                <a:srgbClr val="de70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7000" y="1699920"/>
            <a:ext cx="7916760" cy="47772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7008"/>
                </a:solidFill>
                <a:latin typeface="Arial"/>
              </a:rPr>
              <a:t>IN YOUR COOP LEARNING GROUPS:</a:t>
            </a:r>
            <a:endParaRPr b="0" lang="en-US" sz="2200" spc="-1" strike="noStrike">
              <a:solidFill>
                <a:srgbClr val="de700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57000" y="2212920"/>
            <a:ext cx="7916760" cy="4168800"/>
          </a:xfrm>
          <a:prstGeom prst="rect">
            <a:avLst/>
          </a:prstGeom>
          <a:noFill/>
          <a:ln w="0">
            <a:noFill/>
          </a:ln>
        </p:spPr>
        <p:txBody>
          <a:bodyPr tIns="72000" bIns="72000" anchor="t">
            <a:norm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54"/>
                </a:solidFill>
                <a:latin typeface="Arial"/>
              </a:rPr>
              <a:t>Everyone’s role is to be active and participating BUT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54"/>
                </a:solidFill>
                <a:latin typeface="Arial"/>
              </a:rPr>
              <a:t>Still……number yourselves 1-4: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KAIWHAKAHAERE HANGANGA-materials manager; collect materials, return them, leave your workplace tidy.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KAIWHAKAHAERE- organizer; keep team together, everyone on task, watch the time.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KAIWHAKATAU HOIHOI-noise controller; quiet voices, don</a:t>
            </a:r>
            <a:r>
              <a:rPr b="0" lang="fr-FR" sz="2200" spc="-1" strike="noStrike">
                <a:solidFill>
                  <a:srgbClr val="545454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t disturb others, one speaker at a time.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54"/>
                </a:solidFill>
                <a:latin typeface="Arial"/>
              </a:rPr>
              <a:t>KAITATAKI-worrier; has everyone had their turn? is the final product the best we can do?  Can everyone pass the test?</a:t>
            </a: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5454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01:49:05Z</dcterms:created>
  <dc:creator>Elaine Little</dc:creator>
  <dc:description/>
  <dc:language>en-US</dc:language>
  <cp:lastModifiedBy>Microsoft Office User</cp:lastModifiedBy>
  <cp:lastPrinted>2012-01-28T05:08:34Z</cp:lastPrinted>
  <dcterms:modified xsi:type="dcterms:W3CDTF">2012-01-28T05:45:59Z</dcterms:modified>
  <cp:revision>32</cp:revision>
  <dc:subject/>
  <dc:title>Presentation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8387227</vt:r8>
  </property>
  <property fmtid="{D5CDD505-2E9C-101B-9397-08002B2CF9AE}" pid="3" name="_AuthorEmail">
    <vt:lpwstr>elaine.little@edocs.co.nz</vt:lpwstr>
  </property>
  <property fmtid="{D5CDD505-2E9C-101B-9397-08002B2CF9AE}" pid="4" name="_AuthorEmailDisplayName">
    <vt:lpwstr>elaine.little@edocs.co.nz</vt:lpwstr>
  </property>
  <property fmtid="{D5CDD505-2E9C-101B-9397-08002B2CF9AE}" pid="5" name="_EmailSubject">
    <vt:lpwstr>Learning Media Powerpoint template</vt:lpwstr>
  </property>
</Properties>
</file>